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75E-B50D-48AD-8D79-3C7B5599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B28-12D1-4452-91B5-589F1B8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BE6-D774-41BD-A7E0-F78956A4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D91-45AF-4A78-9BCC-48F8DDD7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B29-2478-43A8-8492-46F84CD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522-AA78-4D48-AEF9-B63C83E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A8D-6482-4646-9D2C-E1BA0E39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8F5-AABD-4794-87BA-230AEC9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9A8-5453-4BE0-9539-5D84FAB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31B-CC71-49C0-96FB-B9F4A90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171-751A-431A-B1A7-CA234C6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20-3CE8-47D0-BC7E-1531B1A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11F-15ED-4810-8E24-36239A1A3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208908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826920" y="1341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60640"/>
            <a:ext cx="241128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LE PERS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 UN PAESE SE 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NNO ALL’ESTER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IVERE E CER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97360"/>
            <a:ext cx="2158920" cy="18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I ITALIANI S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TI EMIG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MOLTI PAESI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CHE SE ME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 UNA VOLTA,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ONO PURE O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76500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476280"/>
            <a:ext cx="151308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N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ALT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27640" y="5490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197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189000"/>
            <a:ext cx="172872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1197000"/>
            <a:ext cx="208764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ZIO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ILI (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50864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4653000"/>
            <a:ext cx="1513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6021360"/>
            <a:ext cx="865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6138720"/>
            <a:ext cx="129528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6093000"/>
            <a:ext cx="1368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558972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5445000"/>
            <a:ext cx="504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419640" y="5661000"/>
            <a:ext cx="142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2349360"/>
            <a:ext cx="2160360" cy="18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E 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IERI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1197000"/>
            <a:ext cx="863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27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421000"/>
            <a:ext cx="1511640" cy="151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TA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RATTUTTO 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013360"/>
            <a:ext cx="163332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4005360"/>
            <a:ext cx="7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400536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71640" y="5013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1:58Z</dcterms:created>
  <dc:creator>studente</dc:creator>
  <dc:description/>
  <dc:language>en-US</dc:language>
  <cp:lastModifiedBy>studente</cp:lastModifiedBy>
  <dcterms:modified xsi:type="dcterms:W3CDTF">2016-12-05T10:26:43Z</dcterms:modified>
  <cp:revision>3</cp:revision>
  <dc:subject/>
  <dc:title>Diapositiva 1</dc:title>
</cp:coreProperties>
</file>